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66CE9-AC48-4BFF-AFA6-9C8DE3241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CF062-07A7-4FE1-8172-AAD813B6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75B33-DAC4-48CA-8A15-68287EEEA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9058E-5CE2-4EF7-9B1F-20285F3B1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749F0-F193-48B5-ABC1-DFC18B3E5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BD346-0168-4495-8F85-4B75E074D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99E7-8C96-44FF-921A-F28A5547E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7083C-2ADE-49AD-B71A-081BD3995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B6A33-4E52-46B6-8706-330E4E446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3DA5E-569B-424F-BFEE-B06603B19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E357-A9B7-48EF-9538-42A8DDD6D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B44DD-6986-4544-9190-451200AD5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764F-EC47-4E96-80BF-C380110D4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5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ff00"/>
                </a:solidFill>
                <a:latin typeface="Britannic Bold"/>
              </a:rPr>
              <a:t>Do you doodl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Broadway"/>
              </a:rPr>
              <a:t>Better Doodling</a:t>
            </a:r>
            <a:endParaRPr b="0" lang="en-US" sz="4400" spc="-1" strike="noStrike">
              <a:solidFill>
                <a:srgbClr val="000000"/>
              </a:solidFill>
              <a:latin typeface="Arial"/>
            </a:endParaRPr>
          </a:p>
        </p:txBody>
      </p:sp>
      <p:sp>
        <p:nvSpPr>
          <p:cNvPr id="43"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people did better when they doodl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Zack, Luke, Taylor, Cayl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ubree, Tanner, Rachel, Michael</a:t>
            </a:r>
            <a:r>
              <a:rPr b="0" lang="en-US" sz="3200" spc="-1" strike="noStrike">
                <a:solidFill>
                  <a:srgbClr val="000000"/>
                </a:solidFill>
                <a:latin typeface="Arial"/>
              </a:rPr>
              <a:t> </a:t>
            </a:r>
            <a:r>
              <a:rPr b="1" lang="en-US" sz="3200" spc="-1" strike="noStrike">
                <a:solidFill>
                  <a:srgbClr val="000000"/>
                </a:solidFill>
                <a:latin typeface="Arial"/>
              </a:rPr>
              <a:t>and Mrs.Riff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Broadway"/>
              </a:rPr>
              <a:t>Worse Doodl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people did worse when they did dood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ryn, Trey W., Tre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Broadway"/>
              </a:rPr>
              <a:t>Same</a:t>
            </a:r>
            <a:endParaRPr b="0" lang="en-US" sz="4400" spc="-1" strike="noStrike">
              <a:solidFill>
                <a:srgbClr val="000000"/>
              </a:solidFill>
              <a:latin typeface="Arial"/>
            </a:endParaRPr>
          </a:p>
        </p:txBody>
      </p:sp>
      <p:sp>
        <p:nvSpPr>
          <p:cNvPr id="47" name="PlaceHolder 2"/>
          <p:cNvSpPr>
            <a:spLocks noGrp="1"/>
          </p:cNvSpPr>
          <p:nvPr>
            <p:ph/>
          </p:nvPr>
        </p:nvSpPr>
        <p:spPr>
          <a:xfrm>
            <a:off x="6858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person did the same both tim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rae J.</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Broadway"/>
              </a:rPr>
              <a:t>Conclus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Well, as I conclude people actually do better when they do doodle. I think it is because when you don’t doodle you can day dream and you can space out. When you are doodling you can doodle what you are listening to. Also when you doodle you can still list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20:03:37Z</dcterms:created>
  <dc:creator>USD376</dc:creator>
  <dc:description/>
  <dc:language>en-US</dc:language>
  <cp:lastModifiedBy>USD376</cp:lastModifiedBy>
  <dcterms:modified xsi:type="dcterms:W3CDTF">2010-03-01T20:08:17Z</dcterms:modified>
  <cp:revision>8</cp:revision>
  <dc:subject/>
  <dc:title>Do you doodle?</dc:title>
</cp:coreProperties>
</file>